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2D9A-AD5C-42D7-9613-5C980176F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215C-76E4-4943-8FD2-5E2DF2369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D304-20E6-427E-9F57-B387BF61E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8C76-9DB0-4172-BE15-973D1152C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CB230-1DD0-4B91-BB98-9A8142BEC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B6E9F-2D9E-442C-A4AB-9F7252658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55A6E-D713-400E-87FC-1FF76A28A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95F5C-8CDF-4CD1-AA4F-DB15D76F0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C6015-A6C0-4EC0-81F8-E5B8D1786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56E8B-9365-4EA5-B234-220E9A016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7F466-4C69-4188-9262-CB2AD4E0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2048-1D85-48F6-A57C-626794180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ACBF4-8638-4704-ABDF-556DD9E6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1A1C1-4688-4AAA-8D94-4D28DB44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84B83-5C8C-44B0-8B4F-92BCDFA7D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4DE45-0A45-4C09-BE78-C1DDE14E3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96935-B1FF-4000-8E1E-ACD1AB061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886B-4054-419B-97E8-0EBF66594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EBD7-8557-4D7A-8BCB-414B2E192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E722-EE18-4CDD-B62C-AADD9F743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6540-3D57-45CB-AE87-DE7293C80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8493-9BBB-4E6A-A3AC-A07D1B7E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D7CD-DD1A-426A-94EA-ABBEAC7D6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ECDD-E807-4D65-9400-DCF48C43F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3E142-9E33-41CE-B11E-815FEA8522D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4F8B5-0E30-4200-A6AD-68433FDADEC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O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obotics are the study of robot tecnology, if you wants to enter a cutting edge field that paid well you could become a robotics techni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rrected sentenc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obotics </a:t>
            </a: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i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he study of robot technology</a:t>
            </a: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you </a:t>
            </a: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wan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o enter a cutting</a:t>
            </a: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dge field that </a:t>
            </a: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pay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well</a:t>
            </a: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you could become a robotics </a:t>
            </a: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technicia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ocus Freewrit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/10 minu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uld you rathe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wim in freezing wate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wim in warm water where lots of sma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ildren have been swimming. (You c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ume what small children do in water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Vocabulary-Exercise 1</a:t>
            </a:r>
            <a:br>
              <a:rPr sz="3200"/>
            </a:b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Complete the sentences with the vocabulary word that best fits in the blank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______ was held in Nokomis cemetar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anchorman delivered the news in a very ______ mann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is a ______ when Smiley misbehav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jury must _____ on a man’s guilt or innocen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must have _______ evidence to win your cas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Vocabulary-Exercise 2. Match the antonym to the word it goes with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breaka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ight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car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m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sagre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 Conc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 Mitiga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 Galo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 Rar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. Fragi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5ffff"/>
                </a:solidFill>
                <a:latin typeface="Tahoma"/>
              </a:rPr>
              <a:t>The Open Boat-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Cont.-Read ch. 5-7 of the story, and answer the following questions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y would twist their bodies for a moment and groan and sleep the dead sleep once more, while the water in the boat gurgled about them as a craft rocked.”  How is the ocean portrayed in this quote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ill you spell me for a little while?” he said meekly. What is shown about the oiler by the use of the word meekly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ater he must have grown stupid at his work, for suddenly there was a growling of water, for suddenly there was a growling of water, and a crest came with a roar and a swash into the boat.” What is meant by this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hat is the one thing that would make the correspondent feel less frightened in the presence of the shark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sed on this quote, what is the theme of the story? “When it occurs to a man that nature does not regard him as important, and that she feels he would not maim the universe by disposing of him, he at first wishes to throw bricks a the temple, and he hates deeply the fact that there are no bricks and no temples. Any visible expression of nature would surely be pelleted with his jeer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ow does the correspondent change on page 463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4T00:15:19Z</dcterms:created>
  <dc:creator>Angie</dc:creator>
  <dc:description/>
  <dc:language>en-US</dc:language>
  <cp:lastModifiedBy>Angie</cp:lastModifiedBy>
  <dcterms:modified xsi:type="dcterms:W3CDTF">2009-01-14T03:57:49Z</dcterms:modified>
  <cp:revision>4</cp:revision>
  <dc:subject/>
  <dc:title>DOL</dc:title>
</cp:coreProperties>
</file>